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6E67A-52C1-457C-B9DF-F63BFC1F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9174-961F-44B1-8655-B15357C7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BEFC9-A8C3-4DEF-A43A-20CF763B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BCD4-4610-4A5D-BE36-AD0A16BF5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1AFB-97C5-4F41-B956-6EC799FC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E9CC-0408-46C1-8252-6148E35B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17BF-3DAC-4D55-81F4-C03A3B4F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528E-BEB5-46CF-8075-8D1FF469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66C0-7792-4180-8C40-ADA6252E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A95D-711F-4995-BB81-4726D3F3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28A8-88EB-4E8D-AE9C-D8C98F97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B469-1EE1-495C-A605-C2C4E3E9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DD22-A615-42FE-BC7C-7286FFF2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7633-3185-4DDB-B6FA-6B6B0EA8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EC1C-1E33-445D-A35E-19630257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287D-2C38-42D3-A922-5A5A4AB0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A98D-5C37-491C-BFE1-689CD421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47F9D-32C9-4A30-B0B9-DC8E0301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16003-4C15-4DB1-AEFC-291581F8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F507-8E26-4B34-A61F-DD70635F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6DBB0-A3ED-4675-96B8-E6388C5D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5767-5E3C-4F92-BAD2-4C36B773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1223-F5E2-422D-B421-5221D7A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BAC7-BF70-4AA8-8851-5EE5AE3E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7900-162B-497C-9AE2-AB1B6CD775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D375-E90C-40D5-BE9A-8F8A10E86C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tting the Puzzle Pieces Together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Three E’s of Independent Read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: Anne Dollenmey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ket Discus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to help guide the conver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were placed in a bucket and the groups picked from the bucket when they needed top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ime went on, students did not need the buckets as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 Card 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4038480" cy="3886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meeting in their groups, students filled out an index card explaining one thing that was talked about in their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cards were also used to have students write to me about their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32767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I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ncepts are taught in reading or writing, students use their independent reading novel to find exam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162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cces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conversations happened due to fewer restri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 guys, the book I picked it is actually kind of cool. It deals with ghosts and dead creature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l, I like horror books. Sounds like something I might want to tr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leted Puzz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= Motivation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elt like I wanted to read and discover new books because I wanted to share my discoveries with my group member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= Book Recommend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 circles made reading entertaining, exciting, and enjoy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Your Own Puzz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envision this working in your own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Quick Wr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front of your index card, write one word that describes your feelings towards independent reading in your class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the back explain why you selected that wor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dolescent Respon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45720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oint to reading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te read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teachers always force me to rea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is bor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2520" y="1523520"/>
            <a:ext cx="4038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better things to do with my tim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robably have to complete some stupid book report after we read a stupid book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114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162540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38480" y="190476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to a student’s motivation to read when an independent reading program uses conversation to discuss book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E’s of Reading: Entertaining, Exciting, Enjo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3962520"/>
            <a:ext cx="23623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uilding a Community of Read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73160" y="1981080"/>
            <a:ext cx="3422520" cy="1866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of choice is not really a choice at al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 of freedom and gu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ing Interest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pping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Reads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84320" y="4000680"/>
            <a:ext cx="341136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side of Puzz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like to do after reading a good book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on’t want to write a book report. Hate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ks are like movies, if it is good you want to talk to your friends abou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to talk and share my thoughts abou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at to do after they rea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Literature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5600" y="1981080"/>
            <a:ext cx="404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tructuring Literature Circ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based on gen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every other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tudent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was on reading and being prepared to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eacher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per Bag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d the students to be prepared to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per bag was fun to complete and it made it so easy for me to discuss my book with my other group memb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289548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15:36:34Z</dcterms:created>
  <dc:creator>Kathy</dc:creator>
  <dc:description/>
  <dc:language>en-US</dc:language>
  <cp:lastModifiedBy>dollenmeyer_a</cp:lastModifiedBy>
  <dcterms:modified xsi:type="dcterms:W3CDTF">2010-09-10T19:52:15Z</dcterms:modified>
  <cp:revision>14</cp:revision>
  <dc:subject/>
  <dc:title>Fitting the Puzzle Pieces Together </dc:title>
</cp:coreProperties>
</file>